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322E-28FB-45C7-99DA-87785B5B0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36BC-FE5E-4BDC-9E9D-2C1D4C26864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D25B-948A-4646-A395-0A5B0D5EDC9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ABD0-4659-45C7-B163-AD616E4FC4C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4483-0E3C-4A38-8244-FCCF9B412CC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30A4-22F1-4063-9E75-8E3DCFA5EEF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3FF2-B049-4A31-959C-0FB1E72067E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79BC-791C-4A77-810F-6A53ECB6672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BAFA-F509-4FD0-AB6C-21E3298B706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2964-FA6E-42C6-84FD-79F73799337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16EB-B757-4F6F-A4BE-F773D0B8AB1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542B-5206-43FD-85E6-F8192A51605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78A6-5D00-4519-856F-E10ED48C3E1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2B9E-671F-40A1-A9E4-EB3AB11208B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3E9E-152A-4AB2-B4AB-6CFED3EF78B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2D14-288B-45AC-BF9E-A9C0D35AA8A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D7F8-BE4E-40A4-B1A0-85F99469705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0E63-7380-49BF-B366-71EE6A145EB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8794-1FAD-4FA2-B548-1A9DD4B8EB9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962C-3523-4E8D-B92C-9AA5B0C0CFC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247F-9030-48CE-8D8A-000313E658D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602F-05DA-49A5-B614-6A3276B29B4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3A62-02CA-4F1A-909C-18B2B0D030B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76C0-BD82-4D78-AFDA-52217D028BC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4022-FD6C-48EB-828B-06D63BA1AAF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AE90-4663-42AF-9698-101A27A9201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13FF-4892-4229-9CBC-3354747B86D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946E-2466-4796-A190-BE2337E2BDB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46A3-CA84-450C-8F29-F6065B0444F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0C04-272F-4C48-8236-C04669C29AC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1774-6AB4-4504-A111-AE67FA9A298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F147-A36D-4EFC-8687-48FEF085FAD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68E2-3B98-40B1-AB6E-515681EFDEE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38BF-FDFD-48CC-A505-17CFF56CB4C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BB21-3BAA-4069-B14B-E0C730D4726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ED4-9CAE-4E3E-BC6F-D801AE46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AC9-6ED0-4DA4-A107-F6572B2A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43F2-9A40-4513-8B28-4B052437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CAF-8BF5-45E8-B023-C2D50780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0903-E1F6-4F9E-AA36-04E8BFF5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C86C-CDC0-4FE2-9F9F-FA37F02D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7278F-8D71-4F76-BB08-8C165512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32D6-5A7D-4752-AA5E-1ED290A2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26EA-BBA2-4C56-8344-48A8D6D9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D5494-D0F5-468A-A92F-462470B4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61C5-34BC-4901-9ECD-54A354C0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F639-F3ED-4F9E-AB3C-DBA81054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AB9F-CC7E-4831-9808-54849FD3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68E7-21D0-4369-BD58-A5CB2A35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8FFE-E069-4805-A01F-7C632FD8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0B64-B829-48CC-ADCC-73CEA543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275C-0332-415D-B83B-78B5BAB2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4F0C6-DFE4-4100-85FC-D810B738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0210-35C9-43DC-9D10-F4C23AD4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46B4D-3237-45A8-86DE-4E8E5EE7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23E5F-C1C4-4C31-91E9-C9563190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A70B5-84C6-436D-A354-587907AA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186-E646-4ADE-994A-7DCB0C1F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7694-FF6C-4532-95C8-4A953542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40DD-421D-4473-9E2F-E01841D8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0303-D5B2-4D86-8A1A-0000A6C6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22D4C-E4A1-4E16-A046-553F6B4D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B7469-DE72-4472-93D1-40EE6F33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C68EB-9D10-4B3C-AAB5-93BE3A6E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0896-566F-42B9-9B70-AA071552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EAA-E081-4DCD-8162-62CFA2FE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4B87-0498-4343-8860-D14C4428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459-FEF4-4862-A3E1-10DDB6F7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456B-E49D-4B53-A076-0BB27834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249-8C2B-409A-BD0C-349F7DDF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31A0-80E6-4A0A-814B-61BDE5B7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D322-C27F-4316-8D90-239CD1B520F4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38D0-EDFF-4530-8C6D-D5624184B22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1B96-1F35-4CD8-8070-35C9AE94C0A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</a:rPr>
              <a:t>ХИДРОТЕРАПИЈ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66"/>
                </a:solidFill>
                <a:latin typeface="Times New Roman"/>
              </a:rPr>
              <a:t>Медицински</a:t>
            </a:r>
            <a:r>
              <a:rPr b="0" lang="sr-Latn-CS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6666"/>
                </a:solidFill>
                <a:latin typeface="Times New Roman"/>
              </a:rPr>
              <a:t>факултет</a:t>
            </a:r>
            <a:r>
              <a:rPr b="0" lang="sr-Latn-CS" sz="28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6666"/>
                </a:solidFill>
                <a:latin typeface="Times New Roman"/>
              </a:rPr>
              <a:t>Крагујевац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Биофизич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механичк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еј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идростатск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итис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ажње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ериферн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енск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лимфн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уд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итиск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ентралн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рвоток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          (“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птереће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ц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”)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јафрагм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грудн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ш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&gt;отеж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нспирију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лакш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експирију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б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тисак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од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(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рхимедов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зако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тпор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од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Биофизич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ермичк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еј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ефикас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нвектив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едств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механичко деј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ејство притиска и потис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хемијск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еј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имен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атер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створљив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о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ежина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ела при потапању у воду</a:t>
            </a:r>
            <a:br>
              <a:rPr sz="3600"/>
            </a:b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(Harrison,Bulstrod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                            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ушкарци              же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7                           8%                     8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r 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hoideus         35%                    28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IAS                       54%                     47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вн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судов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ож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азодилат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ВС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ул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фреквенција,ударни волумен промена периферног отпора протицању кр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ЦНС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Н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здражљив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роводљив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П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у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нтрактилн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Р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брзи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уби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ањ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вн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слик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– Er, Hgb, 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бубрези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 диурезу топле повећава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метаболиза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ксидативн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оцес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топл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азодилатац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рвенил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ж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азоконстрикц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нутрашњ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рга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наш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нтагонистичк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днос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ж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(Daster Morat)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изузев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мозга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бубрега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3300"/>
                </a:solidFill>
                <a:latin typeface="Times New Roman"/>
              </a:rPr>
              <a:t>слези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топл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аткотрајн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опл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брз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чан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одубљу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уготрајн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опл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зази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брза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рш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топл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аткотрајн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дражљив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ер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ишић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уготрајн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мању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у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ишић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лф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астичн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мању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у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спор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Н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зази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ром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нертн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а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отива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лад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раткотрајн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зази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вофаз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еакци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мање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фреквенци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ц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кок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ул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убљ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етаболиз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у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П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онизир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већ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д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м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особн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Физиолошк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јств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лад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дуготрај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зази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рофаз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еакци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с (парализа вазоконстриктора и слабљење тонуса к.с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мању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дражљив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оводљивос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ер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&gt;аналгетск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азмолитичк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елов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спор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рча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фреквенци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споравај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етаболиза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Контрола бола хидротерапијо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јство на периферне механорецепторе смањује улаз кроз  ,,врата,,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ују ТТ,а тиме и оптерећење на зглобов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-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ефинициј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идротерап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дразуме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пољ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име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од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циљ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лечењ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јед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најстариј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идо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лечењ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ефикас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зноврст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года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мбинов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озира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јефти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огућ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анредн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слов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термална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скал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Cordes-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Rectangle 46"/>
          <p:cNvSpPr/>
          <p:nvPr/>
        </p:nvSpPr>
        <p:spPr>
          <a:xfrm>
            <a:off x="0" y="60958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66"/>
                </a:solidFill>
                <a:latin typeface="France YU"/>
                <a:ea typeface="Times New Roman"/>
              </a:rPr>
              <a:t> </a:t>
            </a: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2438280"/>
          <a:ext cx="8686800" cy="4195800"/>
        </p:xfrm>
        <a:graphic>
          <a:graphicData uri="http://schemas.openxmlformats.org/drawingml/2006/table">
            <a:tbl>
              <a:tblPr/>
              <a:tblGrid>
                <a:gridCol w="1106640"/>
                <a:gridCol w="1357200"/>
                <a:gridCol w="1574640"/>
                <a:gridCol w="1600200"/>
                <a:gridCol w="1295640"/>
                <a:gridCol w="175248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rup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ladna diferentna zo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is oseća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diferentna zo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pla diferentna zo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is osećaj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34-30</a:t>
                      </a:r>
                      <a:r>
                        <a:rPr b="1" lang="en-GB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vež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6-38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p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0-25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lad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8-40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rlo top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-12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prijatno hlad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4 – 36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º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C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2-44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re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-6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podnošljivo hlad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4-46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prijatno vre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2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I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-0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eden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6-48 C</a:t>
                      </a: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epodnošljivo vrel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5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озирањ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Cordes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ап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ферентној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ж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а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т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V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епе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оскал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ап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зир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ут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епе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оскал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кундам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идротерапијска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реакција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Baruch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куп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фекат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их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лаз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јством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овољавајућ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терапијск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фект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ацијент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ећ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з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б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и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ршин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ликац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гатив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акц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з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вокотањ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јаноз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крати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ршин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ликац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з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ротирањ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нека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кину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терапи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Лечење опекоти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хидрацијом,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змекшавањем и дебридманом нектротичног ткива&gt;одвајање и смањ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ње броја бактер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ак и топлота побоњшавају циркулацију и трофику и поуспешују зараст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нтисптични раствори,вежбе у вод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вежи графтови(до 7 дана) су контраиндик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одела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терапијских</a:t>
            </a:r>
            <a:r>
              <a:rPr b="1" lang="en-GB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цедура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дротермалне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дуре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дрокинетичке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дур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мпресе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–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оге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ев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ливања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серн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љања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водн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саж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кинезитерапиј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аковањ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дрохемијске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дуре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идроелектричне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цедур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мпорн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а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алванск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оров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а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етвороћелијске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ана</a:t>
            </a:r>
            <a:r>
              <a:rPr b="0" lang="en-GB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одел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ских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</a:rPr>
              <a:t>ОПШ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рипремно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излагањ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упањ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уширањ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овод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масаж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омбинован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</a:rPr>
              <a:t>ЛОКАЛН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блог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иригациј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лиз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локал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упк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Дозирањ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јачин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надража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ермичког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еханичког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емијског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рајањ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овршин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Контраиндикациј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з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малигнит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екомпензациј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срц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H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лућ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бољењ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ахекс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рудноћ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ијареј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инконтиненц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епилепс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стањ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осл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CV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зараз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бољењ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ерматитис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ерматоз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соријаз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екц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хеморагич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ијатез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ране,инфекциј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7621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.Хидротермалн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мпре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ог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јједноставни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термал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јпознатиј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iesnitz ov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ан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кри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колик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оје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в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кани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реч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акт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дух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к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уз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сторз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фламаторн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арингитис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хеитис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ронхитис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)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ливањ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ж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т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окал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шт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0-25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ањ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-5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фротир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к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црвен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ај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кр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ед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мор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ује тонизирајућ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термалне 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опште,полукупке и локалне (различит П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ане купке,ароматичне,са гасов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упк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топал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еуматск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роничн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осттрауматских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тањ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рехлад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боло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алој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арлиц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...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рућ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.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д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онтуз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исторз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оток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...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хладн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апиј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-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историја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јстариј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исан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вор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сопотамија, Индија, К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пократ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460-377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иш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но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г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ечи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тоц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лцерац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ихтоз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фекц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але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терапиј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ечи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имск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ладијатор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nsent Priesnitz (1799-1852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мал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рљањ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лажн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ешкир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укавиц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зат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ув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пешкир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Куп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Паковањ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-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у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влаж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мал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г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шт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окал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ак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дражај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уж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мереног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0-30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ферент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епратур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г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а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уж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0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ле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штих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и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требан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мор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јмање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0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мал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изменичне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контрасне,васкуларна вежба)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изменич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ликовањ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1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4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ућ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ут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ој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ут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-7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ут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к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р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ифер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уматизам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мрзли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ттрауматск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ањ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ма и консензуално дејство.Не код срчаних болесника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auffeov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чет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5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6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&gt;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тепе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ећа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к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0-12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42-43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ректно настаје вазодилатација и обилно знојењ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термал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аковањ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разуме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вијањ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гмент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кр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аршаве,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тход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топ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сцеде&gt;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оконстрикци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брз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ењу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одилатациј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у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дативн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сле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плеторн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НС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б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ифер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одилатациј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грејан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аздух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међ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крог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арша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вршетк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нзитивних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ра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ровањ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суств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ханичких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дражај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рист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порних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саница,климактеричних,нервоз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уготрајна: код гојазности, интоксикација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2.Хидрокинетичк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ев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стављај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смере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 сегмент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и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финисани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ханичк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дражај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нов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љ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ичк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кундаран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ај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нос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рнут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м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лад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0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хладн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0</a:t>
            </a:r>
            <a:r>
              <a:rPr b="0" lang="en-GB" sz="24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е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над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0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).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м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иски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ом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т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соки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ко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т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м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лику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труј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ар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ишни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кинетичк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Шкотски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</a:rPr>
              <a:t>туш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2-3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ат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с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2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д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3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растојањ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30-32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изменично 38-42С,30-60 сек,па 15-20 С 15 до 30 сек. што се понавња 4-5 пута.Пр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вак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едеће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етман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 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у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0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врш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нергични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љање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-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кинетичке 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Шаркоов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Charkot)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уш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 воде под р 1-3 Ва,са 2-3 м удаље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дња,па бочна,па предње стране тела,густим и растреситим млазом.У почетку 30-32,после 5-6 процедура 20 С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раје 3-5 мин,завршава се енергичним трљањем преко сувог чарша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ази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ак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переми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кинети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</a:rPr>
              <a:t>ч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исерна</a:t>
            </a:r>
            <a:r>
              <a:rPr b="1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тложн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) 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ферентн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ом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, ваздух 1-2 Бара пропушта се кроз решетку, дражи механо и терморецепторе.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и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масаж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у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налгетск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дативно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ин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у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жиљк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ластичним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к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р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ифер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ац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трактур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ред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МН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жиљц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кинетичке 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водна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саж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дстављ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ндиферент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епратур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и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ко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азен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смерав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м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олело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гмент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л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ек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ставак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а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лазниц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ж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њат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тисак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 растојање.Попречно-на мишиће,кости и зглобове,косо на кожу и поткожно ткиво.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вод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ерифер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ентр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во проксимални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0-1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1004760" y="938160"/>
            <a:ext cx="713448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 периоду развоја Римског царства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r>
              <a:rPr b="0" lang="sr-C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</a:t>
            </a: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јвеће изграђено купатило из тог доба налази се у Риму (Каракалине терме),  на 14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a </a:t>
            </a: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 вртовима, стадионима, зеленим површинама</a:t>
            </a:r>
            <a:r>
              <a:rPr b="0" lang="sr-C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М</a:t>
            </a:r>
            <a:r>
              <a:rPr b="0" lang="en-GB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гло је да прими 3200 људи. За време Римског царства изграђено је 900 купатила, а у наслеђу су оставили бање: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</a:t>
            </a: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Vishi (Aquae Calidae), Bat (Aquae Sulis), Visbaden  (Aquae Mattiacae)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кинети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</a:rPr>
              <a:t>ч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кинезитерапија</a:t>
            </a:r>
            <a:r>
              <a:rPr b="1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гра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ежб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рхимедов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ко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могућ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вођењ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крет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шић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чиј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аг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довољ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во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мператур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у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пазам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прављ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циркулациј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сихолошк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фека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звољен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слонац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идрокинезитерапиј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већање снаге и издржљивости мишић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обилизација зглоб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ење спастицит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бољшање баланса и координа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риоваскуларно и респираторно кондиционира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лакс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мањење бола,спазма и ото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абардов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тан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Picture 4" descr="hab"/>
          <p:cNvPicPr/>
          <p:nvPr/>
        </p:nvPicPr>
        <p:blipFill>
          <a:blip r:embed="rId1"/>
          <a:stretch/>
        </p:blipFill>
        <p:spPr>
          <a:xfrm>
            <a:off x="2282760" y="2362320"/>
            <a:ext cx="52624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.Хидрохемијск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426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хемијске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мбину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армаколошко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ређених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ерал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дат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емијс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ј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мпор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етерич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љ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гље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иокси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р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)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изички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ички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ем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од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в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у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дражајн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у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;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стој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есорпц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оз кож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ла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роматич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умпор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адонск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љендиоксид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..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Хидрохемијске</a:t>
            </a:r>
            <a:r>
              <a:rPr b="1" lang="en-GB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цед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686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гљенокиселе</a:t>
            </a:r>
            <a:r>
              <a:rPr b="1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њу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35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5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четк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ечењ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нижав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6</a:t>
            </a:r>
            <a:r>
              <a:rPr b="0" lang="en-GB" sz="2800" spc="-1" strike="noStrike">
                <a:solidFill>
                  <a:srgbClr val="003366"/>
                </a:solidFill>
                <a:latin typeface="Symbol"/>
                <a:ea typeface="Symbol"/>
              </a:rPr>
              <a:t>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5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н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рај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н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вих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вету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ировањ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д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л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азен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Број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апликациј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едној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риј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бичн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износ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5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ж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врем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упк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јак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црвени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бог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еловањ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ехурић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ерморецептор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бог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птерећењ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ВС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ветуј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мор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од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2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ата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Хидроелектричне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</a:rPr>
              <a:t>купк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Галванска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ада (300-500 м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Четвороћеличне</a:t>
            </a:r>
            <a:r>
              <a:rPr b="0" lang="sr-Latn-C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Times New Roman"/>
              </a:rPr>
              <a:t>куп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447920" y="0"/>
            <a:ext cx="520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5410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42900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409"/>
                </a:solidFill>
                <a:latin typeface="Arial"/>
              </a:rPr>
              <a:t>САУ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343400" cy="50464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114800" y="685440"/>
            <a:ext cx="5029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ишекратна</a:t>
            </a:r>
            <a:r>
              <a:rPr b="1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аздушна</a:t>
            </a:r>
            <a:r>
              <a:rPr b="1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упк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оплом(110 С)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увом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аздуху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371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леди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ладн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пшт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упк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оливање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ли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уш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ишекратн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римен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двофазног</a:t>
            </a:r>
            <a:r>
              <a:rPr b="1" lang="en-US" sz="24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24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надражај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гревањем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лађењем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оже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ел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неколико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наврат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борави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о 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5-20 </a:t>
            </a: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м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игрометар,туширање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ЕРАПИЈСК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ОЗМЕТИЧ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ПОРТСКА</a:t>
            </a:r>
            <a:r>
              <a:rPr b="0" lang="en-US" sz="24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409"/>
                </a:solidFill>
                <a:latin typeface="Arial"/>
              </a:rPr>
              <a:t>Физиолошко</a:t>
            </a:r>
            <a:r>
              <a:rPr b="1" lang="sr-Latn-CS" sz="36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409"/>
                </a:solidFill>
                <a:latin typeface="Arial"/>
              </a:rPr>
              <a:t>деловање саун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Терморегулациони</a:t>
            </a:r>
            <a:r>
              <a:rPr b="1" lang="en-US" sz="2200" spc="-1" strike="noStrike" u="sng">
                <a:solidFill>
                  <a:srgbClr val="000409"/>
                </a:solidFill>
                <a:uFillTx/>
                <a:latin typeface="Arial"/>
              </a:rPr>
              <a:t> </a:t>
            </a: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механизми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Темп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.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кож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раст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40º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С уз</a:t>
            </a:r>
            <a:r>
              <a:rPr b="1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нтензивн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знојење(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400-800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2000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мл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зноја)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т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тел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знос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39º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С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.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КВ</a:t>
            </a:r>
            <a:r>
              <a:rPr b="1" lang="en-US" sz="2200" spc="-1" strike="noStrike" u="sng">
                <a:solidFill>
                  <a:srgbClr val="000409"/>
                </a:solidFill>
                <a:uFillTx/>
                <a:latin typeface="Arial"/>
              </a:rPr>
              <a:t> </a:t>
            </a: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систе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ад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ијастолног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ритиск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убрзањ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улс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З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врем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хлађењ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лаз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смањењ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улс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овећањ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ијастолног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ритиск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чему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треб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водит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рачун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код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хипертензиј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409"/>
                </a:solidFill>
                <a:latin typeface="Arial"/>
              </a:rPr>
              <a:t>Вазомоторни</a:t>
            </a:r>
            <a:r>
              <a:rPr b="1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409"/>
                </a:solidFill>
                <a:latin typeface="Arial"/>
              </a:rPr>
              <a:t>тренинг</a:t>
            </a:r>
            <a:r>
              <a:rPr b="1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409"/>
                </a:solidFill>
                <a:latin typeface="Arial"/>
              </a:rPr>
              <a:t>кож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кој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вод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регулациј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ритиск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улса     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смањењ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фреквенциј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дисања</a:t>
            </a:r>
            <a:r>
              <a:rPr b="1" lang="en-US" sz="2200" spc="-1" strike="noStrike" u="sng">
                <a:solidFill>
                  <a:srgbClr val="000409"/>
                </a:solidFill>
                <a:uFillTx/>
                <a:latin typeface="Arial"/>
              </a:rPr>
              <a:t>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Бубрег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омаж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регулацију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функциј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бубрег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Метаболиза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Кожа</a:t>
            </a:r>
            <a:r>
              <a:rPr b="1" lang="sr-Latn-CS" sz="2200" spc="-1" strike="noStrike" u="sng">
                <a:solidFill>
                  <a:srgbClr val="000409"/>
                </a:solidFill>
                <a:uFillTx/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акне,сува кожа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Имунитет: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овећање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отпорности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прем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409"/>
                </a:solidFill>
                <a:latin typeface="Arial"/>
              </a:rPr>
              <a:t>инфекцијама</a:t>
            </a:r>
            <a:r>
              <a:rPr b="0" lang="en-US" sz="2200" spc="-1" strike="noStrike">
                <a:solidFill>
                  <a:srgbClr val="000409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409"/>
                </a:solidFill>
                <a:uFillTx/>
                <a:latin typeface="Arial"/>
              </a:rPr>
              <a:t>Састав крви,мишићна снага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9" name="Picture 2" descr="C:\Users\jo\Downloads\rimskokupatilo.jpg"/>
          <p:cNvPicPr/>
          <p:nvPr/>
        </p:nvPicPr>
        <p:blipFill>
          <a:blip r:embed="rId1"/>
          <a:srcRect l="9996" t="0" r="9996" b="0"/>
          <a:stretch/>
        </p:blipFill>
        <p:spPr>
          <a:xfrm>
            <a:off x="1066680" y="612720"/>
            <a:ext cx="708660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ндикације</a:t>
            </a:r>
            <a:r>
              <a:rPr b="1" lang="en-U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 сауну</a:t>
            </a:r>
            <a:r>
              <a:rPr b="1" lang="en-U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у</a:t>
            </a:r>
            <a:r>
              <a:rPr b="1" lang="en-US" sz="40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мање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вазомотор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реакциј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оже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рашћивање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ра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соријаз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ронич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паљењск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дегенератив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реуматичк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бољењ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ронич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паљењ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респираторног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ангиопатије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(I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II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тадијум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)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ронич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паљењск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неспецифичн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гинеколошка</a:t>
            </a:r>
            <a:r>
              <a:rPr b="0" lang="en-U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бољењ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лаке Х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Контраиндикације</a:t>
            </a:r>
            <a:r>
              <a:rPr b="1" lang="en-U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C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з</a:t>
            </a:r>
            <a:r>
              <a:rPr b="1" lang="en-U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sr-CS" sz="3600" spc="-1" strike="noStrike" u="sng">
                <a:solidFill>
                  <a:srgbClr val="000409"/>
                </a:solidFill>
                <a:uFillTx/>
                <a:latin typeface="Times New Roman"/>
                <a:ea typeface="Times New Roman"/>
              </a:rPr>
              <a:t> саун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Малигни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умор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Акутни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запаљењски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роцес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Фебрилн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тањ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Менструација,трудноћ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клузивн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артеријск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бољењ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Туберкулозн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обољењ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Декомпензациј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рц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,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плућа, бубрега и јетре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зражен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хипертиреоз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рварење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и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склоност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а</a:t>
            </a:r>
            <a:r>
              <a:rPr b="0" lang="en-U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409"/>
                </a:solidFill>
                <a:latin typeface="Times New Roman"/>
                <a:ea typeface="Times New Roman"/>
              </a:rPr>
              <a:t>крварењ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Римске терме су биле центар јавног живот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осторије у Римским термам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Просторије за комуникациј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Одељење за остављање гардероб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Apoditerium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незагревана просторија на улазу у купатил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epidariu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просторија са загрејаним ваздух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aldariu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купатила са врућом водом ( вруће купањ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Frigidarijum</a:t>
            </a:r>
            <a:r>
              <a:rPr b="0" lang="en-GB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купатила са хладном водом ( хладно купање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Sudatorium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просторија за презнојавањ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  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(сауна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Unctorium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одељење за масаж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Latrina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 тоал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efurnium</a:t>
            </a:r>
            <a:r>
              <a:rPr b="0" lang="en-GB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ложиш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2" descr="C:\Users\jo\Downloads\terme1.jpg"/>
          <p:cNvPicPr/>
          <p:nvPr/>
        </p:nvPicPr>
        <p:blipFill>
          <a:blip r:embed="rId1"/>
          <a:srcRect l="0" t="6763" r="0" b="6763"/>
          <a:stretch/>
        </p:blipFill>
        <p:spPr>
          <a:xfrm>
            <a:off x="1066680" y="457200"/>
            <a:ext cx="7010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Физичко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-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хемијск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дејства</a:t>
            </a:r>
            <a:r>
              <a:rPr b="1" lang="sr-Latn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вод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отни</a:t>
            </a: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пацит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личи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топлот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требн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гр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атери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греј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1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º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C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</a:rPr>
              <a:t>термопровољиво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оличин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оплоте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ој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пролаз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кроз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1 cm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²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/se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мањ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чврстих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ел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бољ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других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течност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гасов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(3 x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алкохол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, 28 x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ваздух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3366"/>
                </a:solidFill>
                <a:latin typeface="Times New Roman"/>
              </a:rPr>
              <a:t>хидросолубилнос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72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способност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растварања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супстанци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Times New Roman"/>
              </a:rPr>
              <a:t>вод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14:35Z</dcterms:created>
  <dc:creator>PAKOM</dc:creator>
  <dc:description/>
  <dc:language>en-US</dc:language>
  <cp:lastModifiedBy>Info</cp:lastModifiedBy>
  <dcterms:modified xsi:type="dcterms:W3CDTF">2020-01-03T10:17:59Z</dcterms:modified>
  <cp:revision>40</cp:revision>
  <dc:subject/>
  <dc:title>HIDROTERAPIJA</dc:title>
</cp:coreProperties>
</file>